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9407-8531-4196-894B-B2EDD410F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0923-7B68-40B7-AE0D-0C74CA07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30D1-17AC-4B27-AA0C-72400BA41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BD4F-F064-4994-8B12-8ED16FF6E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3B22B-5ABF-43E7-803D-30120AD21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4910-0D59-44C9-85C7-E647D96A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7D47-5E0A-4083-9C08-29E4DC2A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C8CD6-CB92-4C7E-99E5-A329444E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192BC-9CB5-4FE8-B3EB-3AEEE118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3745-5A15-4B91-9371-17E85394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E237-B450-4750-8511-8C4FF6C3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23DE-F135-4ED3-9B47-7CCB96A7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C474C-1152-4EBA-9F5C-9ED7B046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1030-861B-4CAB-A90C-86157847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3D233-DB94-4DF9-9556-BE2DCD8B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8F13-1FFA-45D6-A571-340A914E1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D1F3-A8E7-4260-84E3-B33FB3872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9C2F-A95F-435F-97B5-5FE45A13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F857-2562-4A9B-B059-1FF9B204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4461-FEF0-44CF-BB82-46246C70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5DEE-D7DB-45F7-B01B-4A820A23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B91C-BD30-4804-ABEA-51FEAE53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111B-AEDA-493D-A747-DE0C715B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E4E9-637C-4C0B-8D3A-C37507B3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248D-884C-4C36-961D-0BD22FFB8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DBCA-D54B-4D40-A40D-81EB72365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3366"/>
                </a:solidFill>
                <a:latin typeface="Times New Roman"/>
              </a:rPr>
              <a:t>CI43A </a:t>
            </a:r>
            <a:r>
              <a:rPr b="0" lang="es-CL" sz="4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CL" sz="4800" spc="-1" strike="noStrike">
                <a:solidFill>
                  <a:srgbClr val="003366"/>
                </a:solidFill>
                <a:latin typeface="Times New Roman"/>
              </a:rPr>
              <a:t>Taller IX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42640" y="5486400"/>
            <a:ext cx="6224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ordinador Talle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odrigo Henríquez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i43a@chil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71600" y="3657600"/>
            <a:ext cx="6400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odelos de Asignación: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Asignación Increm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3366"/>
                </a:solidFill>
                <a:latin typeface="Arial"/>
              </a:rPr>
              <a:t>Problema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5105520"/>
            <a:ext cx="32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manda de viajes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260960" y="5257800"/>
                <a:ext cx="11113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267080" y="5638680"/>
                <a:ext cx="12193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3220920" y="15681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54520" y="2361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82920" y="25905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01840" y="2666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3600" y="2285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25520" y="3504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8840" y="2361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6600" y="1599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830960" y="1294200"/>
            <a:ext cx="5200920" cy="3660120"/>
            <a:chOff x="1830960" y="1294200"/>
            <a:chExt cx="5200920" cy="3660120"/>
          </a:xfrm>
        </p:grpSpPr>
        <p:grpSp>
          <p:nvGrpSpPr>
            <p:cNvPr id="144" name=""/>
            <p:cNvGrpSpPr/>
            <p:nvPr/>
          </p:nvGrpSpPr>
          <p:grpSpPr>
            <a:xfrm>
              <a:off x="1830960" y="1294200"/>
              <a:ext cx="5200920" cy="3660120"/>
              <a:chOff x="1830960" y="1294200"/>
              <a:chExt cx="5200920" cy="3660120"/>
            </a:xfrm>
          </p:grpSpPr>
          <p:sp>
            <p:nvSpPr>
              <p:cNvPr id="145" name=""/>
              <p:cNvSpPr/>
              <p:nvPr/>
            </p:nvSpPr>
            <p:spPr>
              <a:xfrm>
                <a:off x="2035800" y="12942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830960" y="44946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326280" y="13705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631560" y="44946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9" name=""/>
              <p:cNvGrpSpPr/>
              <p:nvPr/>
            </p:nvGrpSpPr>
            <p:grpSpPr>
              <a:xfrm>
                <a:off x="2286000" y="1828800"/>
                <a:ext cx="4267080" cy="3048120"/>
                <a:chOff x="2286000" y="1828800"/>
                <a:chExt cx="4267080" cy="304812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4191120" y="1828800"/>
                  <a:ext cx="152280" cy="15228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286000" y="1828800"/>
                  <a:ext cx="152280" cy="15228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400800" y="1828800"/>
                  <a:ext cx="152280" cy="15228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286000" y="3124080"/>
                  <a:ext cx="152280" cy="15264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286000" y="4648320"/>
                  <a:ext cx="152280" cy="15228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191120" y="3124080"/>
                  <a:ext cx="152280" cy="15264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114800" y="4648320"/>
                  <a:ext cx="152280" cy="15228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6400800" y="3124080"/>
                  <a:ext cx="152280" cy="15264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400800" y="4724280"/>
                  <a:ext cx="152280" cy="15264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9" name=""/>
            <p:cNvGrpSpPr/>
            <p:nvPr/>
          </p:nvGrpSpPr>
          <p:grpSpPr>
            <a:xfrm>
              <a:off x="2362320" y="1905120"/>
              <a:ext cx="4114800" cy="2895480"/>
              <a:chOff x="2362320" y="1905120"/>
              <a:chExt cx="4114800" cy="2895480"/>
            </a:xfrm>
          </p:grpSpPr>
          <p:sp>
            <p:nvSpPr>
              <p:cNvPr id="160" name=""/>
              <p:cNvSpPr/>
              <p:nvPr/>
            </p:nvSpPr>
            <p:spPr>
              <a:xfrm>
                <a:off x="2666880" y="1905120"/>
                <a:ext cx="144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495680" y="1905120"/>
                <a:ext cx="1752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362320" y="205740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362320" y="3429000"/>
                <a:ext cx="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514600" y="4800600"/>
                <a:ext cx="144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419720" y="4800600"/>
                <a:ext cx="182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477120" y="21337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477120" y="3352680"/>
                <a:ext cx="0" cy="129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2438280" y="2870280"/>
                <a:ext cx="1752840" cy="253800"/>
                <a:chOff x="2438280" y="2870280"/>
                <a:chExt cx="1752840" cy="253800"/>
              </a:xfrm>
            </p:grpSpPr>
            <p:sp>
              <p:nvSpPr>
                <p:cNvPr id="169" name=""/>
                <p:cNvSpPr/>
                <p:nvPr/>
              </p:nvSpPr>
              <p:spPr>
                <a:xfrm flipH="1">
                  <a:off x="2438280" y="3048120"/>
                  <a:ext cx="763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514600" y="2870280"/>
                  <a:ext cx="1676520" cy="253800"/>
                </a:xfrm>
                <a:custGeom>
                  <a:avLst/>
                  <a:gdLst/>
                  <a:ahLst/>
                  <a:rect l="l" t="t" r="r" b="b"/>
                  <a:pathLst>
                    <a:path w="1056" h="160">
                      <a:moveTo>
                        <a:pt x="0" y="112"/>
                      </a:moveTo>
                      <a:cubicBezTo>
                        <a:pt x="72" y="96"/>
                        <a:pt x="144" y="80"/>
                        <a:pt x="240" y="64"/>
                      </a:cubicBezTo>
                      <a:cubicBezTo>
                        <a:pt x="336" y="48"/>
                        <a:pt x="440" y="0"/>
                        <a:pt x="576" y="16"/>
                      </a:cubicBezTo>
                      <a:cubicBezTo>
                        <a:pt x="712" y="32"/>
                        <a:pt x="884" y="96"/>
                        <a:pt x="1056" y="16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514600" y="3276360"/>
                <a:ext cx="1828800" cy="241560"/>
                <a:chOff x="2514600" y="3276360"/>
                <a:chExt cx="1828800" cy="24156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514600" y="3276720"/>
                  <a:ext cx="1676520" cy="241200"/>
                </a:xfrm>
                <a:custGeom>
                  <a:avLst/>
                  <a:gdLst/>
                  <a:ahLst/>
                  <a:rect l="l" t="t" r="r" b="b"/>
                  <a:pathLst>
                    <a:path w="1056" h="152">
                      <a:moveTo>
                        <a:pt x="0" y="0"/>
                      </a:moveTo>
                      <a:cubicBezTo>
                        <a:pt x="72" y="36"/>
                        <a:pt x="144" y="72"/>
                        <a:pt x="240" y="96"/>
                      </a:cubicBezTo>
                      <a:cubicBezTo>
                        <a:pt x="336" y="120"/>
                        <a:pt x="440" y="152"/>
                        <a:pt x="576" y="144"/>
                      </a:cubicBezTo>
                      <a:cubicBezTo>
                        <a:pt x="712" y="136"/>
                        <a:pt x="984" y="40"/>
                        <a:pt x="1056" y="4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V="1">
                  <a:off x="4191120" y="3276360"/>
                  <a:ext cx="15228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4419720" y="3276360"/>
                <a:ext cx="1828800" cy="241560"/>
                <a:chOff x="4419720" y="3276360"/>
                <a:chExt cx="1828800" cy="2415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4419720" y="3276720"/>
                  <a:ext cx="1676160" cy="241200"/>
                </a:xfrm>
                <a:custGeom>
                  <a:avLst/>
                  <a:gdLst/>
                  <a:ahLst/>
                  <a:rect l="l" t="t" r="r" b="b"/>
                  <a:pathLst>
                    <a:path w="1056" h="152">
                      <a:moveTo>
                        <a:pt x="0" y="0"/>
                      </a:moveTo>
                      <a:cubicBezTo>
                        <a:pt x="72" y="36"/>
                        <a:pt x="144" y="72"/>
                        <a:pt x="240" y="96"/>
                      </a:cubicBezTo>
                      <a:cubicBezTo>
                        <a:pt x="336" y="120"/>
                        <a:pt x="440" y="152"/>
                        <a:pt x="576" y="144"/>
                      </a:cubicBezTo>
                      <a:cubicBezTo>
                        <a:pt x="712" y="136"/>
                        <a:pt x="984" y="40"/>
                        <a:pt x="1056" y="4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V="1">
                  <a:off x="6095880" y="3276360"/>
                  <a:ext cx="15264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419360" y="2819520"/>
                <a:ext cx="1752840" cy="253800"/>
                <a:chOff x="4419360" y="2819520"/>
                <a:chExt cx="1752840" cy="253800"/>
              </a:xfrm>
            </p:grpSpPr>
            <p:sp>
              <p:nvSpPr>
                <p:cNvPr id="178" name=""/>
                <p:cNvSpPr/>
                <p:nvPr/>
              </p:nvSpPr>
              <p:spPr>
                <a:xfrm flipH="1">
                  <a:off x="4419360" y="2997360"/>
                  <a:ext cx="7596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495680" y="2819520"/>
                  <a:ext cx="1676520" cy="253800"/>
                </a:xfrm>
                <a:custGeom>
                  <a:avLst/>
                  <a:gdLst/>
                  <a:ahLst/>
                  <a:rect l="l" t="t" r="r" b="b"/>
                  <a:pathLst>
                    <a:path w="1056" h="160">
                      <a:moveTo>
                        <a:pt x="0" y="112"/>
                      </a:moveTo>
                      <a:cubicBezTo>
                        <a:pt x="72" y="96"/>
                        <a:pt x="144" y="80"/>
                        <a:pt x="240" y="64"/>
                      </a:cubicBezTo>
                      <a:cubicBezTo>
                        <a:pt x="336" y="48"/>
                        <a:pt x="440" y="0"/>
                        <a:pt x="576" y="16"/>
                      </a:cubicBezTo>
                      <a:cubicBezTo>
                        <a:pt x="712" y="32"/>
                        <a:pt x="884" y="96"/>
                        <a:pt x="1056" y="16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" name=""/>
              <p:cNvSpPr/>
              <p:nvPr/>
            </p:nvSpPr>
            <p:spPr>
              <a:xfrm flipV="1">
                <a:off x="4267080" y="21337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V="1">
                <a:off x="4267080" y="3428640"/>
                <a:ext cx="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2" name=""/>
          <p:cNvSpPr/>
          <p:nvPr/>
        </p:nvSpPr>
        <p:spPr>
          <a:xfrm>
            <a:off x="2966400" y="47239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27440" y="3809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84040" y="3809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82920" y="3504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06600" y="47239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12840" y="3809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264200" y="6095880"/>
                <a:ext cx="9936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892840" y="5257800"/>
                <a:ext cx="96984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791320" y="5715000"/>
                <a:ext cx="12189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7531200" y="5257800"/>
                <a:ext cx="96984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467480" y="5638680"/>
                <a:ext cx="12193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Taller 9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43000" y="1066680"/>
            <a:ext cx="77724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egunta 1: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uentre el equilibrio o el óptimo del sistema para la red  mostrada en la figura anterior, usando el método de asignación incremental, con N=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incrementos a utilizar pueden ser constantes, es decir, iguales para todas las iteraciones, mayores al principio y menores al final, o viceversa. La elección de una estrategia para definir los incrementos es libre. Se premiará con puntaje adicional al grupo que logre mejor precis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uego de realizada la asignación, verifique la precisión obtenida comparando los costos o costos marginales por ruta según corresponda. Comente. Calcule los costos tot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340000" y="1781280"/>
                <a:ext cx="20653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268360" y="2565360"/>
                <a:ext cx="229896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268360" y="3500280"/>
                <a:ext cx="19796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268360" y="4508640"/>
                <a:ext cx="19796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284560" y="5445000"/>
                <a:ext cx="200016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5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122880" y="1779480"/>
                <a:ext cx="21942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6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6122880" y="2571840"/>
                <a:ext cx="19796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7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6124680" y="3436920"/>
                <a:ext cx="21924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8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6141960" y="4437000"/>
                <a:ext cx="195912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9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6084720" y="5373720"/>
                <a:ext cx="22989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1258920" y="692280"/>
            <a:ext cx="662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Funciones de Costo de los arcos presentes en el problema s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03280" y="19828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03280" y="28465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05080" y="37162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3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05080" y="47242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4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405080" y="565452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5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30920" y="19828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6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930920" y="27748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7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932360" y="36496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8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32360" y="46576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9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55879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10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084480" y="844560"/>
                <a:ext cx="20638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3071880" y="1628640"/>
                <a:ext cx="210816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3051000" y="2492280"/>
                <a:ext cx="23860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3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062160" y="3500280"/>
                <a:ext cx="221472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4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1763640" y="1052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1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63640" y="1844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1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65440" y="2719440"/>
            <a:ext cx="10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13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65440" y="3727440"/>
            <a:ext cx="12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14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14:12:32Z</dcterms:created>
  <dc:creator>F M</dc:creator>
  <dc:description/>
  <dc:language>en-US</dc:language>
  <cp:lastModifiedBy>Marcela Munizaga</cp:lastModifiedBy>
  <dcterms:modified xsi:type="dcterms:W3CDTF">2003-10-17T13:57:50Z</dcterms:modified>
  <cp:revision>30</cp:revision>
  <dc:subject/>
  <dc:title>CI 43A Análisis de Sistemas de Transporte </dc:title>
</cp:coreProperties>
</file>